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326-2D9E-4BFF-AA20-02F1B52A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974-212C-4E02-B09A-1B1E7D4F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D68-E7F0-46EB-BC1A-712D800B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F71-A320-4E1A-8727-5680D069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28A-C76B-4DFD-9ADA-BBC6C028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2EA-AF8F-470C-A9B9-215F9D5F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88F-2629-417F-A6DE-415FE4C5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E50-B3C5-473C-A170-85F89D92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1B9-CE84-4EF3-98FF-00978D58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821-59C4-49D9-8914-97081B27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B6D-EAA5-4EE0-9127-EC32D6AF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EC5-7473-4572-ADAA-E58ACBF8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AAFC-B719-4EA6-90D7-53AF130B0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Eine neue Schulunifor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5084280"/>
            <a:ext cx="55054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y Orla Shee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entury Gothic"/>
              </a:rPr>
              <a:t>Winteruni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625920" cy="3948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4762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5:08:34Z</dcterms:created>
  <dc:creator>sheehorl</dc:creator>
  <dc:description/>
  <dc:language>en-US</dc:language>
  <cp:lastModifiedBy>sheehorl</cp:lastModifiedBy>
  <dcterms:modified xsi:type="dcterms:W3CDTF">2009-09-07T05:17:41Z</dcterms:modified>
  <cp:revision>2</cp:revision>
  <dc:subject/>
  <dc:title>Eine neue Schuluniform</dc:title>
</cp:coreProperties>
</file>